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8FB-518C-4FC9-AC99-14242B3A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1B6-4D1B-4BF7-B4E6-37C056E4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302-2737-4EC6-BEF3-71BE17FE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886-E718-4F8E-8AED-800659FD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E87-12A8-428B-9520-724F3205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80BA5-0B49-49ED-A04E-9B04229A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842F1-7915-4461-8600-07BF7695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0FB35-2698-4325-909F-65136DEC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7135F-1E7A-4A7C-A738-B71394A1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D2820-3B8A-4F5A-A570-C8240788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62B-72B4-4356-99CA-FE172EB1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3221F-15F0-4A21-B0AB-7C70A4AD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B3EBD-643B-421F-9BFF-1374C933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FEECB-BA85-4C61-B086-6CBE4C80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4B658-441C-4E5D-86DF-C5BF4F9A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A2A91-8B51-4FF0-B51D-BA2C8BBF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458BA-F5D3-4ADA-8BBD-F59BE39E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9D951-0943-4B87-B42B-DEB7C3EE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5C3A76-0B6E-4BA5-A81A-0F09387C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BC75E5-085D-4CB0-9248-98D9CE95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ED8D1-BABC-49C7-9009-CFE1254E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102-40D7-4997-833A-2CB1C6E7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A5C03-400C-4C2E-9934-2E6196EC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794F58-9A2F-4EAA-9A2D-1ECFBF76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E65CFC-0277-4253-AE28-178C4AE1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9949C-7242-4F7C-A1B6-98461359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3EB948-BD64-40AB-AA42-87088BBF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1F30FB-5216-4C0D-8999-4ED41593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A45CDD-F023-4316-980E-87FAEAE8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8EEB3-FCE5-406B-AA20-EFF6AA97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CEB3C-68E8-434B-B4B9-013DDA59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D4F-BA74-4E89-92CF-E974ACEA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16A-CDFF-419E-AC55-BEDE2336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880-485F-4212-9ABD-A295AEF2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442-058F-4AF7-8157-8F4D33A6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922-1376-410F-86FB-7B2144EF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6058-CD28-4C90-BAAE-1BA2CD10E921}" type="slidenum">
              <a:rPr b="0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E20F-4885-44E0-A0EB-A2E73AD04293}" type="slidenum">
              <a:rPr b="0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F279-7DFB-4862-B928-351ADE3AD73A}" type="slidenum">
              <a:rPr b="0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776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ction Researc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arch 12, 201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914040" y="3034800"/>
            <a:ext cx="8001000" cy="382284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txBody>
          <a:bodyPr lIns="292680" rIns="274320" tIns="91440" bIns="9144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entury Gothic"/>
              </a:rPr>
              <a:t>Data Collection</a:t>
            </a:r>
            <a:endParaRPr b="0" lang="en-US" sz="3600" spc="-1" strike="noStrike">
              <a:solidFill>
                <a:srgbClr val="595959"/>
              </a:solidFill>
              <a:latin typeface="Century Gothic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uggestions for Surveys &amp; Questionnair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Ensure that survey questions are aligned with research question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Pilot test the surve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Keep survey brief and to the point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 not ask questions unrelated to your surve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riangul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entury Gothic"/>
              </a:rPr>
              <a:t>Multiple forms of data are collected and analyzed</a:t>
            </a:r>
            <a:endParaRPr b="0" lang="en-US" sz="2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entury Gothic"/>
              </a:rPr>
              <a:t>Use at least three ways to look at phenomena to identify themes or characteristics of the situation</a:t>
            </a:r>
            <a:endParaRPr b="0" lang="en-US" sz="2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thic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Confidentiality: privacy is protected by ensuring confidentiality of information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Permissions: permission is obtained to carry out the research from people in positions of responsibilit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formed consent: participants are informed of the nature of the study and provide formal consent to be included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Qualities of Data Collec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959"/>
                </a:solidFill>
                <a:latin typeface="Century Gothic"/>
              </a:rPr>
              <a:t>Generalizability – not necessary; goal is to improve school or classroom</a:t>
            </a:r>
            <a:endParaRPr b="0" lang="en-US" sz="33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959"/>
                </a:solidFill>
                <a:latin typeface="Century Gothic"/>
              </a:rPr>
              <a:t>Validity – the data measures or represents what it is meant to</a:t>
            </a:r>
            <a:endParaRPr b="0" lang="en-US" sz="33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959"/>
                </a:solidFill>
                <a:latin typeface="Century Gothic"/>
              </a:rPr>
              <a:t>Reliability – accuracy of instruments for measurement</a:t>
            </a:r>
            <a:endParaRPr b="0" lang="en-US" sz="33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Questions to As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entury Gothic"/>
              </a:rPr>
              <a:t>Do the instruments and methods we plan to use measure what they claim they do?</a:t>
            </a: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entury Gothic"/>
              </a:rPr>
              <a:t>Do they measure the phenomena we are studying?</a:t>
            </a: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entury Gothic"/>
              </a:rPr>
              <a:t>Are we collecting enough data?</a:t>
            </a: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stablishing Validit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114560" y="2285640"/>
            <a:ext cx="76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Utilize peer to peer coach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Engage in persistent and prolonged observa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Record data accuratel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ember checks -- check in with respondents to discuss interpretation of data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Provide thick descriptions – describe setting, participants, interventions, and research methods in detail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stablishing Validit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entury Gothic"/>
              </a:rPr>
              <a:t>Do a negative case analysis – explore diversity of interpretations</a:t>
            </a: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  <a:p>
            <a:pPr marL="325800" indent="-3258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entury Gothic"/>
              </a:rPr>
              <a:t>Identify any researcher bias</a:t>
            </a: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  <a:p>
            <a:pPr marL="325800" indent="-3258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entury Gothic"/>
              </a:rPr>
              <a:t>Confirmability -- create an audit trail</a:t>
            </a: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  <a:p>
            <a:pPr marL="325800" indent="-3258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entury Gothic"/>
              </a:rPr>
              <a:t>Present results to key audiences</a:t>
            </a: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  <a:p>
            <a:pPr marL="325800" indent="-3258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entury Gothic"/>
              </a:rPr>
              <a:t>Engage in reflective planning</a:t>
            </a: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Quantitative Design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114560" y="2595240"/>
            <a:ext cx="76104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Measures the extent to which how well something is done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Experimental: independent variable manipulated while other variables are controlled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Causal comparative: attempt to discover ther cause of issue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Correlational: examines 2 variables to see if a relationship exist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urvey: discover a group’s status with regard to certain variable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3" marL="13716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Qualitative Design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114560" y="2595600"/>
            <a:ext cx="76104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Describes the qualities of certain aspects of phenomen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Ethnographic: collection of data on may variables in a naturalistic setting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aturalistic: observations in a natural setting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articipant observer: researcher becomes participant in the research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ase study: in depth investigation used to determine the relationship between variables and certain behavior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ontent analysis: analysis of written or verbal content of docum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ethods of Data Collec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114560" y="2595240"/>
            <a:ext cx="76104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Artifac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udent generated: tests, written assignment, performances, portfolios, artwork, projects, journals, self-assessment, peer-review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Teacher generated: lesson plans, journals, self assessment, peer review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Archived: reports, school records, docum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ethods of Data Collec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Observational Data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eld notes, observation records, logs, narratives, checklists, tally sheets, videotapes, photographs, audiotapes, organizational maps/charts, behavioral scales, time on task analysi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quiry Data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terviews, focus groups, conferencing, surveys, questionnaires, attitude scal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3:35:05Z</dcterms:created>
  <dc:creator>MFarrior</dc:creator>
  <dc:description/>
  <dc:language>en-US</dc:language>
  <cp:lastModifiedBy>Marian Farrior</cp:lastModifiedBy>
  <dcterms:modified xsi:type="dcterms:W3CDTF">2012-01-30T00:34:54Z</dcterms:modified>
  <cp:revision>17</cp:revision>
  <dc:subject/>
  <dc:title>Action Research  February 8, 2011</dc:title>
</cp:coreProperties>
</file>